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502-1F33-4873-B284-E1A9BE69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6B2-B123-469D-8B61-D13D4A5B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3EF-EA9D-452D-BC42-EF6CE5D1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9ED4-C911-4855-BC29-8AFC4E44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170E-E0F6-4E11-A3D3-71A62605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CEFB-6922-4A2F-8742-F80338D8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F5A6-63EC-46D3-8E72-51554E40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2491-6FDA-45B8-8079-94BE2E19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4F7C-0626-4D8B-ACFC-542E4584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DCD0-E610-453F-86E5-DA03E9D9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D674-F04C-49E2-AC7B-788DD6D0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A98-6BFC-4359-92AC-854B6819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E702-62ED-48FA-9E20-6AA4A04A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EAAE-41DE-494B-A97E-4540EB71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2F2A-BB58-4862-B50E-1B5BD2D4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204F-6E5E-4CED-AF50-A1461D79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8E65-6F19-41D3-8B72-6B67AFE1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3C595-CC0B-430A-8FFE-A1716E2F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399BC-1853-4BE6-9FF3-CADDAB4D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7058F-95E9-410C-9439-EA5FDCF7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22B10-2EFC-4403-9ABC-F75713FB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33532-3798-49E7-A327-7E51F402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646-A70E-427B-97C1-319D7CD2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C89D4-FE8B-45AF-A909-15F4555C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1F10-413C-466B-A6E2-DCCBE553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3C2F0-D01A-4B9E-A6F9-1588C6BF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1F0E7-98C7-49AA-BABE-EDC0838D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07B9D-92DF-48D4-94EE-28F87803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C947-9104-4DE3-AC6B-CADA295D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651E8-7AE0-4425-AA59-4CC4B701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F50DD-704E-488D-A676-B745BC70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1FE9C-2F48-479A-BBB9-87D06FAC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FB4B7-4EA6-49E7-A90C-A7E7368E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6FE-4420-4933-A8D1-3B1393F2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E0EB5-8286-4233-97EC-8B3B9E99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6D619-0172-4C7D-8E32-47878554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01FD9-50F4-440F-AEF3-46DD2020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8950E-5F49-40C1-B886-3B2F03BC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40678-27E3-4ED2-9FAA-4AA9EA96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C6555-3E31-4DC8-935D-3481EB8D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EDE15-9B27-481E-A628-788764CB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21E50-5DB2-4C82-BAAC-7A837FAD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6BC9C-4A68-4F02-B0FF-6A341427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7CDA4-EF11-4A1A-8624-695F8B39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87A7-0F15-4147-8FDE-D0B26337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30C78-CE9C-43B1-94E6-38AED99E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4FC31-A60B-48B9-AF16-C780E794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0B439-9C49-40AB-8589-B37685D5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EECB4-A33E-4F71-A3F9-FB89B6BC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85D5C-0E4D-4957-86A0-DDAF2D5E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7B91D-E460-436B-8FC9-4AB8BD62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BAF1E-7D7E-449D-98AA-5A1AE406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F5DAD-8570-4001-BE47-3E90B679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0E042-86AD-4B0E-B586-3D5BB3C0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47596-D0E3-4C9C-9C6F-435ECDEE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7E5-A763-4990-8261-0E8826CC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4CB46-C23E-459D-9AFA-980E2066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4D5-D65A-4FCA-81DE-AC91BA12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F18-376F-4DDC-B9B2-8DE5460F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378C-E85A-4CB1-891E-11D89628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B5B6-F3B8-4F3A-BD76-12ED5B32F209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5731-BD87-4421-B48E-D67B2D455061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C64F-0B31-467A-BF43-9B6E80C20BFA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0F19-E182-4958-B125-A45D1E7A17C9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6CA9-E1F8-448D-B167-E4BAFBBBD572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885e9"/>
                </a:solidFill>
                <a:latin typeface="Verdana"/>
              </a:rPr>
              <a:t>Can You Identify The Habitat?</a:t>
            </a:r>
            <a:endParaRPr b="1" lang="en-US" sz="45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386"/>
                </a:solidFill>
                <a:latin typeface="Verdana"/>
              </a:rPr>
              <a:t>A Visual Activ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800240"/>
            <a:ext cx="818352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Resources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http://en.wikipedia.org/wiki/Tide_p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http://www.fortrossstatepark.org/tidepooltips.ht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http://images.google.com/imgres?imgurl=http://www.mchsmuseum.com/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560" y="533160"/>
            <a:ext cx="8839080" cy="6019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is activity, you will use everything you have learned about marine biology to determine which habitat is best represented by the slid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sure to include whether each slide presents biotic or abiotic pieces of the environ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underlying link between the images found on the slid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role do people play in the environment that is depict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how the habitat presented is being chang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533160"/>
            <a:ext cx="8839080" cy="6019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r task is to go through each slide and produce with your partner the dialogue that will go along with the visual materials presen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llowing slideshow will be shown to the entire class, and you will be responsible for answering the questions presented to you on page tw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be graded on accuracy of information as well as completeness of respon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l free to use notes or any other acceptable resource when creating your nar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A Truly Unique Habit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576360" y="1316160"/>
            <a:ext cx="3809880" cy="3484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733920" cy="3505320"/>
          </a:xfrm>
          <a:prstGeom prst="rect">
            <a:avLst/>
          </a:prstGeom>
          <a:ln w="0">
            <a:noFill/>
          </a:ln>
        </p:spPr>
      </p:pic>
      <p:pic>
        <p:nvPicPr>
          <p:cNvPr id="227" name="MSj0441657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973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3"/>
          <a:stretch/>
        </p:blipFill>
        <p:spPr>
          <a:xfrm>
            <a:off x="533520" y="3343320"/>
            <a:ext cx="4038480" cy="2514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4"/>
          <a:stretch/>
        </p:blipFill>
        <p:spPr>
          <a:xfrm>
            <a:off x="4648320" y="3352680"/>
            <a:ext cx="40003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0115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58386"/>
                </a:solidFill>
                <a:latin typeface="Verdana"/>
              </a:rPr>
              <a:t>We Walk Among Them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462720" y="533160"/>
            <a:ext cx="2239920" cy="421164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noramic view taken in Santa Cruz, California from spray/splash zone to low tide z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ttp://en.wikipedia.org/wiki/File:Tide_pools_in_Santa_Cruz_from_Spray-splash_zone_to_low_tide_zone.jp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rcRect l="8385" t="0" r="8385" b="0"/>
          <a:stretch/>
        </p:blipFill>
        <p:spPr>
          <a:xfrm>
            <a:off x="420840" y="434880"/>
            <a:ext cx="5925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743200" cy="2438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2743200" cy="2492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3"/>
          <a:stretch/>
        </p:blipFill>
        <p:spPr>
          <a:xfrm rot="2429400">
            <a:off x="2863440" y="1060560"/>
            <a:ext cx="3581280" cy="4038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4"/>
          <a:stretch/>
        </p:blipFill>
        <p:spPr>
          <a:xfrm>
            <a:off x="5943600" y="3429000"/>
            <a:ext cx="2743200" cy="2438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5"/>
          <a:stretch/>
        </p:blipFill>
        <p:spPr>
          <a:xfrm>
            <a:off x="457200" y="457200"/>
            <a:ext cx="2743200" cy="2438280"/>
          </a:xfrm>
          <a:prstGeom prst="rect">
            <a:avLst/>
          </a:prstGeom>
          <a:ln w="0">
            <a:noFill/>
          </a:ln>
        </p:spPr>
      </p:pic>
      <p:pic>
        <p:nvPicPr>
          <p:cNvPr id="240" name="MSj04416350000[1]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20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85e9"/>
                </a:solidFill>
                <a:latin typeface="Verdana"/>
              </a:rPr>
              <a:t>Man’s Impact on the Environment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362320" cy="4724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6629400" y="380880"/>
            <a:ext cx="2133720" cy="4724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"/>
          <p:cNvPicPr/>
          <p:nvPr/>
        </p:nvPicPr>
        <p:blipFill>
          <a:blip r:embed="rId3"/>
          <a:stretch/>
        </p:blipFill>
        <p:spPr>
          <a:xfrm>
            <a:off x="2971800" y="380880"/>
            <a:ext cx="3429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MSj04416380000[1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550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2:00:02Z</dcterms:created>
  <dc:creator>Corporate Edition</dc:creator>
  <dc:description/>
  <dc:language>en-US</dc:language>
  <cp:lastModifiedBy>tFrankie</cp:lastModifiedBy>
  <dcterms:modified xsi:type="dcterms:W3CDTF">2010-02-08T16:31:07Z</dcterms:modified>
  <cp:revision>16</cp:revision>
  <dc:subject/>
  <dc:title>Can You Identify The Habitat?</dc:title>
</cp:coreProperties>
</file>